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5.png" ContentType="image/png"/>
  <Override PartName="/ppt/media/image2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E0F7-83AF-4440-B4A2-CEACBA0A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3B05-6FBC-485E-A0DB-22FE9358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3C34-3ED6-465C-AED5-7664919B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6B5-34F5-47FB-BA9E-5A25687C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886B-4F2F-4AEB-8749-221A60A7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CD7B-78E0-402A-88DD-AEBE4BF7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9E0E-F906-451F-8E19-CB3C7541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24E4-6DD4-446C-8E91-C59E3C20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525B-010D-4851-963E-DCBEF832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3090-E1C7-46E0-A98A-3F6E3C5B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110D-7625-4423-B9B3-5E917EF6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081F-3EA6-4713-A4E6-65219B25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CD57-A272-4301-A2F3-A8CC2555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2CC1-4F6E-42D7-B7DF-63E0235E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572D-10A2-4775-8221-64780CFC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780D-6252-42C7-91B9-E07B6A4A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6EAC-EC35-4057-AEF1-CA1E3806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8DB8A-8FA3-4D7C-A5EF-1CDDA7DD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13C5D-BD2D-4D50-AAF9-1DC7F63B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94201-50EC-4289-A6EF-0C84A0B4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85395-8BB2-4A9D-8629-3DB45E7F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D1A3D-CD14-4F04-99D1-CA66A4EA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FD0-F3B5-4AB0-9D57-99289430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28156-D55B-4FA8-9DD3-C3FEEBBC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84402-5BF8-4259-AD33-CC6672D5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96F56-3C9C-4BB4-86AC-4E34DAF3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A9731-A406-4DF9-98B9-32FF4C5D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20B28-E4EC-4FDA-A55A-1D0181A3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8CD62-A0F2-4A13-873E-6192130F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FDC14-F793-4ACB-89A2-4A8BA4BE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6D8C4-226A-400C-AFF9-4AD253D7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87A9C-38F1-41BF-A8E6-0F48A27F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4498B-5301-4E64-9F26-030188FF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EE8-29C5-4856-830F-E461CDA4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3F844-50EB-4DD1-963E-8402C129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B027D-6943-41C0-8048-656C8D36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533F8-A2B2-42B4-BAFB-8E071EEC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DED78-817F-4097-A4CB-37C8C64A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ED928-5D42-4003-834A-83D85869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4A323-B889-4740-8580-1F796AA1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BA718-A0B5-42EC-B189-882BBB9B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CA69F-B1BA-47C8-BF3E-C436D1FE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2FAAF-C30E-45EB-AD37-A70A4DB2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CCB41-E619-4F74-B780-5F9C3927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2C8D-1F22-4978-9155-D091FEA5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0BF9A-C59A-4C53-8079-58022FA6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04320-2E2E-49BD-B185-E6D63994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36039-372F-4BFF-9C5E-E47E928F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2A4C0-C47F-4551-B8C5-0AE27F38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2617A-C5A6-41EF-BD2B-B254F2A9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00C05-CF5E-48C0-BEAC-58E22FD7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A8F38-9136-4B38-89C7-979808AD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5CA05-DF2D-407B-AAB6-BD8AB23E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2C0C9-BE26-4C66-9393-16AE2F2E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333A9-700E-42BF-A6A4-736CB158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EA23-C528-43B7-BC04-49AC769C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7877B-F6C1-4D93-8436-1BB1A613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7F189-5E24-408D-A28D-694099B6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EFFF3-E396-4EF8-A8D7-935AD1B1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C0B71-C53D-46EA-8031-607020A6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1ACC5-6DC9-4C40-9871-9E5823B0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C6669-1E8F-4B57-8D6A-CE9A5CEE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1FEA3-7B3A-4D8B-A9C5-D6B31B12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F671A-D3C3-4731-8294-6DA85E60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ADAF0-134C-4630-BB8A-D4A3EAA7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9D1A0-9924-41C7-8043-A8C1D28D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9AD-8498-46B3-A96B-8933B978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26552-3180-403E-AA5A-BBC67C01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ABE0D-B313-4D6D-9207-A8EBDF8F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93DB1-0A1D-4737-B6D9-323FF32F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089CC-6AAE-415C-97FB-783B8947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CB39E-F9BC-431C-B9E5-6A28D8E2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CD5FA-148E-4F22-84D9-7D97921E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4EECC-4EFD-4667-95C8-06B21A13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0C042-2577-4E73-8593-4A991FA4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BE3F5-DFA4-423F-B9FB-13340F80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318E3-83FB-4874-BCD7-07228519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D6C2-755B-431F-AEAD-9607CC3C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2CF94-D046-4083-8231-06D08B32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EF3A9-32DB-4395-9644-33718F99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863B7-E346-419F-86AB-41D3CAA4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04CF0-DDB4-4AA4-8011-5D5B05A1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93847-E98F-4390-982E-BBBDC173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8CB10-EA99-41EA-8BC6-E0D1A28B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28A27-FEAA-4C19-8626-1CF4D8E5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E6976-37DC-40F1-899D-D8D2C996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58E0F-5E15-4449-AE8A-62FE2CA6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CFE93-5124-45C6-B8F1-E41742A7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3F7-A150-4A35-8210-513CCDAE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422280"/>
            <a:ext cx="648000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C9B23-B2A9-45F9-B9EE-53749491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1814B-D717-416D-828C-56BC5536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7D7E8-8A6A-436F-A25A-EB92AC00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1AD7B-5AB3-4056-B16F-E996D44D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25214-DF6B-4CEA-BE90-04D322BA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EF466-B758-47B3-AFD8-D4D185FB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B8058-B4EB-408D-BB12-157B76B3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E6A9-5C49-493F-80E0-C35C6EA4606E}" type="datetime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2599-40B2-45FC-A13B-BFFA9EB8D1BA}" type="slidenum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440" y="2637000"/>
            <a:ext cx="5075280" cy="1223640"/>
          </a:xfrm>
          <a:prstGeom prst="rect">
            <a:avLst/>
          </a:prstGeom>
          <a:solidFill>
            <a:srgbClr val="8f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7596360" y="2637000"/>
            <a:ext cx="1550880" cy="1223640"/>
          </a:xfrm>
          <a:prstGeom prst="rect">
            <a:avLst/>
          </a:prstGeom>
          <a:solidFill>
            <a:srgbClr val="8f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076720" y="2597040"/>
            <a:ext cx="252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8000" spc="-1" strike="noStrike">
                <a:solidFill>
                  <a:srgbClr val="8fc226"/>
                </a:solidFill>
                <a:latin typeface="Arial"/>
                <a:ea typeface="黑体"/>
              </a:rPr>
              <a:t>201</a:t>
            </a:r>
            <a:r>
              <a:rPr b="1" i="1" lang="en-US" sz="8000" spc="-1" strike="noStrike">
                <a:solidFill>
                  <a:srgbClr val="8fc226"/>
                </a:solidFill>
                <a:latin typeface="Arial"/>
                <a:ea typeface="黑体"/>
              </a:rPr>
              <a:t>6</a:t>
            </a:r>
            <a:endParaRPr b="0" lang="en-US" sz="80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89E9-5DB8-4534-AF5B-DD3A98198AE2}" type="datetime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889C-6C8C-4A9F-A959-6497A85F1631}" type="slidenum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等腰三角形 59"/>
          <p:cNvSpPr/>
          <p:nvPr/>
        </p:nvSpPr>
        <p:spPr>
          <a:xfrm flipH="1" rot="5400000">
            <a:off x="381600" y="679320"/>
            <a:ext cx="455760" cy="306360"/>
          </a:xfrm>
          <a:prstGeom prst="triangle">
            <a:avLst>
              <a:gd name="adj" fmla="val 50000"/>
            </a:avLst>
          </a:prstGeom>
          <a:solidFill>
            <a:srgbClr val="678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6520" indent="-236520">
              <a:lnSpc>
                <a:spcPct val="150000"/>
              </a:lnSpc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3F62-2E2E-47EC-A13B-032C662A04E3}" type="datetime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0A39-E157-4F58-9D8C-F8269928861D}" type="slidenum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等腰三角形 59"/>
          <p:cNvSpPr/>
          <p:nvPr/>
        </p:nvSpPr>
        <p:spPr>
          <a:xfrm flipH="1" rot="5400000">
            <a:off x="381600" y="679320"/>
            <a:ext cx="455760" cy="306360"/>
          </a:xfrm>
          <a:prstGeom prst="triangle">
            <a:avLst>
              <a:gd name="adj" fmla="val 50000"/>
            </a:avLst>
          </a:prstGeom>
          <a:solidFill>
            <a:srgbClr val="678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6520" indent="-236520">
              <a:lnSpc>
                <a:spcPct val="150000"/>
              </a:lnSpc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550B-107C-4E69-AC4A-D716CAC64D06}" type="datetime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1534-0ACD-43E5-898A-FBAD8A10F4CF}" type="slidenum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等腰三角形 59"/>
          <p:cNvSpPr/>
          <p:nvPr/>
        </p:nvSpPr>
        <p:spPr>
          <a:xfrm flipH="1" rot="5400000">
            <a:off x="381600" y="679320"/>
            <a:ext cx="455760" cy="306360"/>
          </a:xfrm>
          <a:prstGeom prst="triangle">
            <a:avLst>
              <a:gd name="adj" fmla="val 50000"/>
            </a:avLst>
          </a:prstGeom>
          <a:solidFill>
            <a:srgbClr val="678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6520" indent="-236520">
              <a:lnSpc>
                <a:spcPct val="150000"/>
              </a:lnSpc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C51F-39E4-4A33-A2AB-14031176D457}" type="datetime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6830-EF17-47BB-92AA-72CBFA2DE3DA}" type="slidenum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等腰三角形 59"/>
          <p:cNvSpPr/>
          <p:nvPr/>
        </p:nvSpPr>
        <p:spPr>
          <a:xfrm flipH="1" rot="60000">
            <a:off x="4210920" y="2410920"/>
            <a:ext cx="1114560" cy="716040"/>
          </a:xfrm>
          <a:prstGeom prst="triangle">
            <a:avLst>
              <a:gd name="adj" fmla="val 50000"/>
            </a:avLst>
          </a:prstGeom>
          <a:solidFill>
            <a:srgbClr val="b6e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212" name="等腰三角形 59"/>
          <p:cNvSpPr/>
          <p:nvPr/>
        </p:nvSpPr>
        <p:spPr>
          <a:xfrm flipH="1" rot="60000">
            <a:off x="3886920" y="2410920"/>
            <a:ext cx="1114560" cy="716040"/>
          </a:xfrm>
          <a:prstGeom prst="triangle">
            <a:avLst>
              <a:gd name="adj" fmla="val 50000"/>
            </a:avLst>
          </a:prstGeom>
          <a:solidFill>
            <a:srgbClr val="8f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58F3-5A37-4C90-A29D-05EDA7409503}" type="datetime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BDF9-E773-4961-8C6C-7F792ECD2D3F}" type="slidenum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CFA5-C7C4-491B-9A3E-C5222AEA637F}" type="datetime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3446-8CB6-4256-90E9-3A6F16F0864B}" type="slidenum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等腰三角形 59"/>
          <p:cNvSpPr/>
          <p:nvPr/>
        </p:nvSpPr>
        <p:spPr>
          <a:xfrm flipH="1" rot="5400000">
            <a:off x="381600" y="679320"/>
            <a:ext cx="455760" cy="306360"/>
          </a:xfrm>
          <a:prstGeom prst="triangle">
            <a:avLst>
              <a:gd name="adj" fmla="val 50000"/>
            </a:avLst>
          </a:prstGeom>
          <a:solidFill>
            <a:srgbClr val="6784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6520" indent="-236520">
              <a:lnSpc>
                <a:spcPct val="150000"/>
              </a:lnSpc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22280"/>
            <a:ext cx="6480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8a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f8a1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7841a"/>
              </a:buClr>
              <a:buSzPct val="1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889B-2264-45AC-A07B-3D4160178310}" type="datetime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0ae8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1565-E251-4E9D-8C4C-467062883FF7}" type="slidenum">
              <a:rPr b="0" lang="zh-CN" sz="1200" spc="-1" strike="noStrike">
                <a:solidFill>
                  <a:srgbClr val="a0ae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WordArt 2"/>
          <p:cNvSpPr txBox="1"/>
          <p:nvPr/>
        </p:nvSpPr>
        <p:spPr>
          <a:xfrm>
            <a:off x="1285920" y="1357200"/>
            <a:ext cx="614376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64000"/>
                    </a:srgbClr>
                  </a:outerShdw>
                </a:effectLst>
                <a:latin typeface="黑体"/>
              </a:rPr>
              <a:t>第二十章　数据的分析</a:t>
            </a:r>
            <a:endParaRPr b="1" lang="en-US" sz="5400" spc="1" strike="noStrike">
              <a:ln w="12600">
                <a:solidFill>
                  <a:srgbClr val="b2b2b2"/>
                </a:solidFill>
                <a:round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64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38" name="矩形 3099"/>
          <p:cNvSpPr txBox="1"/>
          <p:nvPr/>
        </p:nvSpPr>
        <p:spPr>
          <a:xfrm>
            <a:off x="900000" y="2492280"/>
            <a:ext cx="712944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20.3</a:t>
            </a:r>
            <a:r>
              <a:rPr b="0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　课题学习　体质健康测试中的数据分析</a:t>
            </a:r>
            <a:endParaRPr b="0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39" name="Picture 13" descr="1"/>
          <p:cNvPicPr/>
          <p:nvPr/>
        </p:nvPicPr>
        <p:blipFill>
          <a:blip r:embed="rId1"/>
          <a:stretch/>
        </p:blipFill>
        <p:spPr>
          <a:xfrm>
            <a:off x="6143760" y="3079800"/>
            <a:ext cx="3019320" cy="3292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1" descr="2"/>
          <p:cNvPicPr/>
          <p:nvPr/>
        </p:nvPicPr>
        <p:blipFill>
          <a:blip r:embed="rId2"/>
          <a:stretch/>
        </p:blipFill>
        <p:spPr>
          <a:xfrm rot="5851800">
            <a:off x="6232320" y="4346280"/>
            <a:ext cx="289080" cy="32400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16"/>
          <p:cNvGrpSpPr/>
          <p:nvPr/>
        </p:nvGrpSpPr>
        <p:grpSpPr>
          <a:xfrm>
            <a:off x="6141600" y="3445200"/>
            <a:ext cx="2108880" cy="1478160"/>
            <a:chOff x="6141600" y="3445200"/>
            <a:chExt cx="2108880" cy="1478160"/>
          </a:xfrm>
        </p:grpSpPr>
        <p:sp>
          <p:nvSpPr>
            <p:cNvPr id="342" name="Text Box 15"/>
            <p:cNvSpPr/>
            <p:nvPr/>
          </p:nvSpPr>
          <p:spPr>
            <a:xfrm rot="20077800">
              <a:off x="6183720" y="3877560"/>
              <a:ext cx="202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7841a"/>
                  </a:solidFill>
                  <a:latin typeface="Arial"/>
                  <a:ea typeface="时尚中黑简体"/>
                </a:rPr>
                <a:t>探究新知</a:t>
              </a:r>
              <a:endParaRPr b="0" lang="en-US" sz="2400" spc="-1" strike="noStrike">
                <a:solidFill>
                  <a:srgbClr val="67841a"/>
                </a:solidFill>
                <a:latin typeface="Arial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 rot="20077800">
              <a:off x="6181200" y="3848400"/>
              <a:ext cx="202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000"/>
                  </a:solidFill>
                  <a:latin typeface="Arial"/>
                  <a:ea typeface="时尚中黑简体"/>
                </a:rPr>
                <a:t>探究新知</a:t>
              </a:r>
              <a:endParaRPr b="0" lang="en-US" sz="2400" spc="-1" strike="noStrike">
                <a:solidFill>
                  <a:srgbClr val="67841a"/>
                </a:solidFill>
                <a:latin typeface="Arial"/>
              </a:endParaRPr>
            </a:p>
          </p:txBody>
        </p:sp>
      </p:grpSp>
      <p:grpSp>
        <p:nvGrpSpPr>
          <p:cNvPr id="344" name="Group 16"/>
          <p:cNvGrpSpPr/>
          <p:nvPr/>
        </p:nvGrpSpPr>
        <p:grpSpPr>
          <a:xfrm>
            <a:off x="6503040" y="3909240"/>
            <a:ext cx="2123640" cy="1480320"/>
            <a:chOff x="6503040" y="3909240"/>
            <a:chExt cx="2123640" cy="1480320"/>
          </a:xfrm>
        </p:grpSpPr>
        <p:sp>
          <p:nvSpPr>
            <p:cNvPr id="345" name="Text Box 15"/>
            <p:cNvSpPr/>
            <p:nvPr/>
          </p:nvSpPr>
          <p:spPr>
            <a:xfrm rot="20023800">
              <a:off x="6540120" y="4324680"/>
              <a:ext cx="202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7841a"/>
                  </a:solidFill>
                  <a:latin typeface="Arial"/>
                  <a:ea typeface="时尚中黑简体"/>
                </a:rPr>
                <a:t>新知梳理</a:t>
              </a:r>
              <a:endParaRPr b="0" lang="en-US" sz="2400" spc="-1" strike="noStrike">
                <a:solidFill>
                  <a:srgbClr val="67841a"/>
                </a:solidFill>
                <a:latin typeface="Arial"/>
              </a:endParaRPr>
            </a:p>
          </p:txBody>
        </p:sp>
        <p:sp>
          <p:nvSpPr>
            <p:cNvPr id="346" name="Text Box 14"/>
            <p:cNvSpPr/>
            <p:nvPr/>
          </p:nvSpPr>
          <p:spPr>
            <a:xfrm rot="20023800">
              <a:off x="6560640" y="4330800"/>
              <a:ext cx="202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时尚中黑简体"/>
                </a:rPr>
                <a:t>新知梳理</a:t>
              </a:r>
              <a:endParaRPr b="0" lang="en-US" sz="2400" spc="-1" strike="noStrike">
                <a:solidFill>
                  <a:srgbClr val="67841a"/>
                </a:solidFill>
                <a:latin typeface="Arial"/>
              </a:endParaRPr>
            </a:p>
          </p:txBody>
        </p:sp>
      </p:grpSp>
      <p:grpSp>
        <p:nvGrpSpPr>
          <p:cNvPr id="347" name="Group 16"/>
          <p:cNvGrpSpPr/>
          <p:nvPr/>
        </p:nvGrpSpPr>
        <p:grpSpPr>
          <a:xfrm>
            <a:off x="7146720" y="4453920"/>
            <a:ext cx="2111760" cy="1480320"/>
            <a:chOff x="7146720" y="4453920"/>
            <a:chExt cx="2111760" cy="1480320"/>
          </a:xfrm>
        </p:grpSpPr>
        <p:sp>
          <p:nvSpPr>
            <p:cNvPr id="348" name="Text Box 15"/>
            <p:cNvSpPr/>
            <p:nvPr/>
          </p:nvSpPr>
          <p:spPr>
            <a:xfrm rot="20010000">
              <a:off x="7194240" y="4872240"/>
              <a:ext cx="202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7841a"/>
                  </a:solidFill>
                  <a:latin typeface="Arial"/>
                  <a:ea typeface="时尚中黑简体"/>
                </a:rPr>
                <a:t>重难互动探究</a:t>
              </a:r>
              <a:endParaRPr b="0" lang="en-US" sz="2400" spc="-1" strike="noStrike">
                <a:solidFill>
                  <a:srgbClr val="67841a"/>
                </a:solidFill>
                <a:latin typeface="Arial"/>
              </a:endParaRPr>
            </a:p>
          </p:txBody>
        </p:sp>
        <p:sp>
          <p:nvSpPr>
            <p:cNvPr id="349" name="Text Box 14"/>
            <p:cNvSpPr/>
            <p:nvPr/>
          </p:nvSpPr>
          <p:spPr>
            <a:xfrm rot="20010000">
              <a:off x="7183440" y="4872960"/>
              <a:ext cx="202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时尚中黑简体"/>
                </a:rPr>
                <a:t>重难互动探究</a:t>
              </a:r>
              <a:endParaRPr b="0" lang="en-US" sz="2400" spc="-1" strike="noStrike">
                <a:solidFill>
                  <a:srgbClr val="67841a"/>
                </a:solidFill>
                <a:latin typeface="Arial"/>
              </a:endParaRPr>
            </a:p>
          </p:txBody>
        </p:sp>
      </p:grpSp>
      <p:pic>
        <p:nvPicPr>
          <p:cNvPr id="350" name="Picture 21" descr="2"/>
          <p:cNvPicPr/>
          <p:nvPr/>
        </p:nvPicPr>
        <p:blipFill>
          <a:blip r:embed="rId3"/>
          <a:stretch/>
        </p:blipFill>
        <p:spPr>
          <a:xfrm rot="5851800">
            <a:off x="6534360" y="4752000"/>
            <a:ext cx="287280" cy="323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1" descr="2"/>
          <p:cNvPicPr/>
          <p:nvPr/>
        </p:nvPicPr>
        <p:blipFill>
          <a:blip r:embed="rId4"/>
          <a:stretch/>
        </p:blipFill>
        <p:spPr>
          <a:xfrm rot="5851800">
            <a:off x="6962400" y="5499000"/>
            <a:ext cx="288720" cy="32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500" autoRev="1" fill="hold"/>
                                        <p:tgtEl>
                                          <p:spTgt spid="3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5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500" autoRev="1" fill="hold"/>
                                        <p:tgtEl>
                                          <p:spTgt spid="3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2248920" y="289080"/>
            <a:ext cx="403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黑体"/>
              </a:rPr>
              <a:t>20.3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　课题学习　体质健康测试中的数据分析</a:t>
            </a:r>
            <a:endParaRPr b="0" lang="en-US" sz="22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95" name="文本框 261122"/>
          <p:cNvSpPr/>
          <p:nvPr/>
        </p:nvSpPr>
        <p:spPr>
          <a:xfrm>
            <a:off x="179280" y="1484280"/>
            <a:ext cx="882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归纳总结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pic>
        <p:nvPicPr>
          <p:cNvPr id="396" name="图片 261123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4514760" cy="214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2248920" y="289080"/>
            <a:ext cx="403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黑体"/>
              </a:rPr>
              <a:t>20.3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　课题学习　体质健康测试中的数据分析</a:t>
            </a:r>
            <a:endParaRPr b="0" lang="en-US" sz="22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98" name="文本框 254986"/>
          <p:cNvSpPr/>
          <p:nvPr/>
        </p:nvSpPr>
        <p:spPr>
          <a:xfrm>
            <a:off x="179280" y="1484280"/>
            <a:ext cx="882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正确从频数分布表和频数分布直方图中获取有效信息，灵活运用频数和总数之间的关系求解相关问题；尤其是计算平均数时，一般取组中值代表该组数据的实际数值，频数代表该组数据的权，但当题目出现“至少”“至多”字眼时，对应取左端点值、右端点值进行计算，从而确定出平均值范围．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2248920" y="289080"/>
            <a:ext cx="403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黑体"/>
              </a:rPr>
              <a:t>20.3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　课题学习　体质健康测试中的数据分析</a:t>
            </a:r>
            <a:endParaRPr b="0" lang="en-US" sz="22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400" name="Rectangle 9"/>
          <p:cNvSpPr/>
          <p:nvPr/>
        </p:nvSpPr>
        <p:spPr>
          <a:xfrm>
            <a:off x="395280" y="12488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  <a:ea typeface="黑体"/>
              </a:rPr>
              <a:t>探究问题二　利用统计知识对数据的波动情况进行分析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401" name="文本框 257027"/>
          <p:cNvSpPr/>
          <p:nvPr/>
        </p:nvSpPr>
        <p:spPr>
          <a:xfrm>
            <a:off x="179280" y="1916280"/>
            <a:ext cx="882036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ff6600"/>
                </a:solidFill>
                <a:latin typeface="宋体"/>
              </a:rPr>
              <a:t>2</a:t>
            </a:r>
            <a:r>
              <a:rPr b="0" lang="en-US" sz="2400" spc="-1" strike="noStrike">
                <a:solidFill>
                  <a:srgbClr val="67841a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67841a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67841a"/>
                </a:solidFill>
                <a:latin typeface="宋体"/>
              </a:rPr>
              <a:t>某社区准备在甲、乙两位射箭爱好者中选出一人参加集训，两人各射了</a:t>
            </a:r>
            <a:r>
              <a:rPr b="1" lang="en-US" sz="2400" spc="-1" strike="noStrike">
                <a:solidFill>
                  <a:srgbClr val="67841a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67841a"/>
                </a:solidFill>
                <a:latin typeface="宋体"/>
              </a:rPr>
              <a:t>箭，他们的总成绩</a:t>
            </a:r>
            <a:r>
              <a:rPr b="1" lang="en-US" sz="2400" spc="-1" strike="noStrike">
                <a:solidFill>
                  <a:srgbClr val="67841a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67841a"/>
                </a:solidFill>
                <a:latin typeface="宋体"/>
              </a:rPr>
              <a:t>单位：环</a:t>
            </a:r>
            <a:r>
              <a:rPr b="1" lang="en-US" sz="2400" spc="-1" strike="noStrike">
                <a:solidFill>
                  <a:srgbClr val="67841a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67841a"/>
                </a:solidFill>
                <a:latin typeface="宋体"/>
              </a:rPr>
              <a:t>相同．小宇根据他们的成绩绘制了如下尚不完整的统计图表，并计算了甲成绩的平均数和方差</a:t>
            </a:r>
            <a:r>
              <a:rPr b="1" lang="en-US" sz="2400" spc="-1" strike="noStrike">
                <a:solidFill>
                  <a:srgbClr val="67841a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67841a"/>
                </a:solidFill>
                <a:latin typeface="宋体"/>
              </a:rPr>
              <a:t>见小宇的作业</a:t>
            </a:r>
            <a:r>
              <a:rPr b="1" lang="en-US" sz="2400" spc="-1" strike="noStrike">
                <a:solidFill>
                  <a:srgbClr val="67841a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67841a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7841a"/>
                </a:solidFill>
                <a:latin typeface="Arial"/>
              </a:rPr>
              <a:t>甲、乙两人射箭成绩统计表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826920" y="5084640"/>
          <a:ext cx="7273800" cy="1189080"/>
        </p:xfrm>
        <a:graphic>
          <a:graphicData uri="http://schemas.openxmlformats.org/drawingml/2006/table">
            <a:tbl>
              <a:tblPr/>
              <a:tblGrid>
                <a:gridCol w="1212840"/>
                <a:gridCol w="1211400"/>
                <a:gridCol w="1212840"/>
                <a:gridCol w="1212840"/>
                <a:gridCol w="1211040"/>
                <a:gridCol w="1212840"/>
              </a:tblGrid>
              <a:tr h="549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次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次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次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次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次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甲成绩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乙成绩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2248920" y="289080"/>
            <a:ext cx="403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黑体"/>
              </a:rPr>
              <a:t>20.3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　课题学习　体质健康测试中的数据分析</a:t>
            </a:r>
            <a:endParaRPr b="0" lang="en-US" sz="22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404" name="矩形 265219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pic>
        <p:nvPicPr>
          <p:cNvPr id="405" name="图片 265218" descr="E:/兼/2014 全品/全品/2014ppt/数学/人教八下数学新教案做课件/BD230.eps"/>
          <p:cNvPicPr/>
          <p:nvPr/>
        </p:nvPicPr>
        <p:blipFill>
          <a:blip r:embed="rId1"/>
          <a:stretch/>
        </p:blipFill>
        <p:spPr>
          <a:xfrm>
            <a:off x="2484360" y="1557360"/>
            <a:ext cx="3708360" cy="3078000"/>
          </a:xfrm>
          <a:prstGeom prst="rect">
            <a:avLst/>
          </a:prstGeom>
          <a:ln w="0">
            <a:noFill/>
          </a:ln>
        </p:spPr>
      </p:pic>
      <p:sp>
        <p:nvSpPr>
          <p:cNvPr id="406" name="矩形 265220"/>
          <p:cNvSpPr/>
          <p:nvPr/>
        </p:nvSpPr>
        <p:spPr>
          <a:xfrm>
            <a:off x="2941920" y="4867920"/>
            <a:ext cx="19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7841a"/>
                </a:solidFill>
                <a:latin typeface="宋体"/>
                <a:ea typeface="Times New Roman"/>
              </a:rPr>
              <a:t>图</a:t>
            </a:r>
            <a:r>
              <a:rPr b="1" lang="en-US" sz="2400" spc="-1" strike="noStrike">
                <a:solidFill>
                  <a:srgbClr val="67841a"/>
                </a:solidFill>
                <a:latin typeface="宋体"/>
                <a:ea typeface="Times New Roman"/>
              </a:rPr>
              <a:t>20</a:t>
            </a:r>
            <a:r>
              <a:rPr b="1" lang="zh-CN" sz="2400" spc="-1" strike="noStrike">
                <a:solidFill>
                  <a:srgbClr val="67841a"/>
                </a:solidFill>
                <a:latin typeface="宋体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67841a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67841a"/>
                </a:solidFill>
                <a:latin typeface="宋体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67841a"/>
                </a:solidFill>
                <a:latin typeface="宋体"/>
                <a:ea typeface="Times New Roman"/>
              </a:rPr>
              <a:t>3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1371600" y="289080"/>
            <a:ext cx="7953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黑体"/>
              </a:rPr>
              <a:t>20.3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　课题学习　体质健康测试中的数据分析</a:t>
            </a:r>
            <a:endParaRPr b="0" lang="en-US" sz="2200" spc="-1" strike="noStrike">
              <a:solidFill>
                <a:srgbClr val="67841a"/>
              </a:solidFill>
              <a:latin typeface="Arial"/>
            </a:endParaRPr>
          </a:p>
        </p:txBody>
      </p:sp>
      <p:pic>
        <p:nvPicPr>
          <p:cNvPr id="408" name="对象 271362" descr=""/>
          <p:cNvPicPr/>
          <p:nvPr/>
        </p:nvPicPr>
        <p:blipFill>
          <a:blip r:embed="rId1"/>
          <a:stretch/>
        </p:blipFill>
        <p:spPr>
          <a:xfrm>
            <a:off x="609480" y="1511280"/>
            <a:ext cx="8055000" cy="414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2248920" y="289080"/>
            <a:ext cx="403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黑体"/>
              </a:rPr>
              <a:t>20.3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　课题学习　体质健康测试中的数据分析</a:t>
            </a:r>
            <a:endParaRPr b="0" lang="en-US" sz="22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410" name="文本框 250882"/>
          <p:cNvSpPr/>
          <p:nvPr/>
        </p:nvSpPr>
        <p:spPr>
          <a:xfrm>
            <a:off x="179280" y="1484280"/>
            <a:ext cx="882036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x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宋体"/>
                <a:ea typeface="Times New Roman"/>
              </a:rPr>
              <a:t>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；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请完成折线图中表示乙变化情况的折线；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观察折线图，可看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的成绩比较稳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填“甲”或“乙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参照小宇的计算方法，计算乙成绩的方差，并验证你的判断；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请你从平均数和方差的角度分析，谁将被选中？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2248920" y="289080"/>
            <a:ext cx="403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黑体"/>
              </a:rPr>
              <a:t>20.3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　课题学习　体质健康测试中的数据分析</a:t>
            </a:r>
            <a:endParaRPr b="0" lang="en-US" sz="22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412" name="文本框 272386"/>
          <p:cNvSpPr/>
          <p:nvPr/>
        </p:nvSpPr>
        <p:spPr>
          <a:xfrm>
            <a:off x="179280" y="1484280"/>
            <a:ext cx="882036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Times New Roman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Times New Roman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Times New Roman"/>
              </a:rPr>
              <a:t>] (1)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Times New Roman"/>
              </a:rPr>
              <a:t>根据他们的总成绩相同求得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Times New Roman"/>
              </a:rPr>
              <a:t>值．利用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Times New Roman"/>
              </a:rPr>
              <a:t>值以及乙的其他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Times New Roman"/>
              </a:rPr>
              <a:t>次成绩求得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Times New Roman"/>
              </a:rPr>
              <a:t>x</a:t>
            </a:r>
            <a:r>
              <a:rPr b="1" lang="zh-CN" sz="2400" spc="-1" strike="noStrike" baseline="-30000">
                <a:solidFill>
                  <a:srgbClr val="3366ff"/>
                </a:solidFill>
                <a:latin typeface="宋体"/>
                <a:ea typeface="Times New Roman"/>
              </a:rPr>
              <a:t>乙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Times New Roman"/>
              </a:rPr>
              <a:t>；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Times New Roman"/>
              </a:rPr>
              <a:t>补全统计图；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Times New Roman"/>
              </a:rPr>
              <a:t>(3)①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Times New Roman"/>
              </a:rPr>
              <a:t>根据折线图波动的大小判断出成绩稳定的一方．利用方差公式求得乙成绩的方差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，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Times New Roman"/>
              </a:rPr>
              <a:t>验证猜测；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Times New Roman"/>
              </a:rPr>
              <a:t>②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Times New Roman"/>
              </a:rPr>
              <a:t>根据平均数和方差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，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Times New Roman"/>
              </a:rPr>
              <a:t>分析出谁被选中．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1371600" y="289080"/>
            <a:ext cx="7953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黑体"/>
              </a:rPr>
              <a:t>20.3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　课题学习　体质健康测试中的数据分析</a:t>
            </a:r>
            <a:endParaRPr b="0" lang="en-US" sz="2200" spc="-1" strike="noStrike">
              <a:solidFill>
                <a:srgbClr val="67841a"/>
              </a:solidFill>
              <a:latin typeface="Arial"/>
            </a:endParaRPr>
          </a:p>
        </p:txBody>
      </p:sp>
      <p:pic>
        <p:nvPicPr>
          <p:cNvPr id="414" name="对象 262146" descr=""/>
          <p:cNvPicPr/>
          <p:nvPr/>
        </p:nvPicPr>
        <p:blipFill>
          <a:blip r:embed="rId1"/>
          <a:stretch/>
        </p:blipFill>
        <p:spPr>
          <a:xfrm>
            <a:off x="609480" y="1481040"/>
            <a:ext cx="7925040" cy="827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371600" y="289080"/>
            <a:ext cx="7953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黑体"/>
              </a:rPr>
              <a:t>20.3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　课题学习　体质健康测试中的数据分析</a:t>
            </a:r>
            <a:endParaRPr b="0" lang="en-US" sz="2200" spc="-1" strike="noStrike">
              <a:solidFill>
                <a:srgbClr val="67841a"/>
              </a:solidFill>
              <a:latin typeface="Arial"/>
            </a:endParaRPr>
          </a:p>
        </p:txBody>
      </p:sp>
      <p:pic>
        <p:nvPicPr>
          <p:cNvPr id="416" name="对象 273410" descr=""/>
          <p:cNvPicPr/>
          <p:nvPr/>
        </p:nvPicPr>
        <p:blipFill>
          <a:blip r:embed="rId1"/>
          <a:stretch/>
        </p:blipFill>
        <p:spPr>
          <a:xfrm>
            <a:off x="668160" y="1495440"/>
            <a:ext cx="7925040" cy="5122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2248920" y="289080"/>
            <a:ext cx="403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黑体"/>
              </a:rPr>
              <a:t>20.3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　课题学习　体质健康测试中的数据分析</a:t>
            </a:r>
            <a:endParaRPr b="0" lang="en-US" sz="22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418" name="文本框 274434"/>
          <p:cNvSpPr/>
          <p:nvPr/>
        </p:nvSpPr>
        <p:spPr>
          <a:xfrm>
            <a:off x="179280" y="1484280"/>
            <a:ext cx="882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归纳总结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一般说来，一组数据的方差越小，说明这组数据的离散程度越小，稳定性越好，但这不是绝对的．有时多数数据集中，整体较稳定，若个别数据的偏差较大，则对方差的值会造成很大的影响，因此我们还需与平均数、众数和中位数一起综合运用．在实际问题中，只有在数据的平均数相等或比较接近时，才能根据方差的大小确定谁更优秀．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248920" y="289080"/>
            <a:ext cx="403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黑体"/>
              </a:rPr>
              <a:t>20.3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　课题学习　体质健康测试中的数据分析</a:t>
            </a:r>
            <a:endParaRPr b="0" lang="en-US" sz="2200" spc="-1" strike="noStrike">
              <a:solidFill>
                <a:srgbClr val="67841a"/>
              </a:solidFill>
              <a:latin typeface="Arial"/>
            </a:endParaRPr>
          </a:p>
        </p:txBody>
      </p:sp>
      <p:grpSp>
        <p:nvGrpSpPr>
          <p:cNvPr id="353" name="组合 15"/>
          <p:cNvGrpSpPr/>
          <p:nvPr/>
        </p:nvGrpSpPr>
        <p:grpSpPr>
          <a:xfrm>
            <a:off x="466560" y="1413000"/>
            <a:ext cx="3025800" cy="736560"/>
            <a:chOff x="466560" y="1413000"/>
            <a:chExt cx="3025800" cy="736560"/>
          </a:xfrm>
        </p:grpSpPr>
        <p:pic>
          <p:nvPicPr>
            <p:cNvPr id="354" name="Picture 11" descr=""/>
            <p:cNvPicPr/>
            <p:nvPr/>
          </p:nvPicPr>
          <p:blipFill>
            <a:blip r:embed="rId1"/>
            <a:stretch/>
          </p:blipFill>
          <p:spPr>
            <a:xfrm>
              <a:off x="466560" y="1413000"/>
              <a:ext cx="30258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TextBox 13"/>
            <p:cNvSpPr/>
            <p:nvPr/>
          </p:nvSpPr>
          <p:spPr>
            <a:xfrm>
              <a:off x="1006200" y="1415880"/>
              <a:ext cx="23976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探 究 新 知</a:t>
              </a:r>
              <a:endParaRPr b="0" lang="en-US" sz="2800" spc="-1" strike="noStrike">
                <a:solidFill>
                  <a:srgbClr val="67841a"/>
                </a:solidFill>
                <a:latin typeface="Arial"/>
              </a:endParaRPr>
            </a:p>
          </p:txBody>
        </p:sp>
      </p:grpSp>
      <p:sp>
        <p:nvSpPr>
          <p:cNvPr id="356" name="Rectangle 10"/>
          <p:cNvSpPr/>
          <p:nvPr/>
        </p:nvSpPr>
        <p:spPr>
          <a:xfrm>
            <a:off x="755640" y="2015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宋体"/>
                <a:ea typeface="黑体"/>
              </a:rPr>
              <a:t>  </a:t>
            </a:r>
            <a:r>
              <a:rPr b="1" lang="zh-CN" sz="2400" spc="-1" strike="noStrike">
                <a:solidFill>
                  <a:srgbClr val="67841a"/>
                </a:solidFill>
                <a:latin typeface="宋体"/>
                <a:ea typeface="黑体"/>
              </a:rPr>
              <a:t>►  </a:t>
            </a:r>
            <a:r>
              <a:rPr b="1" lang="zh-CN" sz="2400" spc="-1" strike="noStrike">
                <a:solidFill>
                  <a:srgbClr val="7030a0"/>
                </a:solidFill>
                <a:latin typeface="宋体"/>
                <a:ea typeface="黑体"/>
              </a:rPr>
              <a:t>活动</a:t>
            </a: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1  </a:t>
            </a:r>
            <a:r>
              <a:rPr b="1" lang="zh-CN" sz="2400" spc="-1" strike="noStrike">
                <a:solidFill>
                  <a:srgbClr val="7030a0"/>
                </a:solidFill>
                <a:latin typeface="宋体"/>
                <a:ea typeface="黑体"/>
              </a:rPr>
              <a:t>知识准备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57" name="文本框 48203"/>
          <p:cNvSpPr/>
          <p:nvPr/>
        </p:nvSpPr>
        <p:spPr>
          <a:xfrm>
            <a:off x="108000" y="2565360"/>
            <a:ext cx="882000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被调查对象的全体称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从总体中抽取的一部分个体，称为这个总体的一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在其他情况相同时，样本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越大，样本反映总体的情况越真实．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58" name="矩形 48216"/>
          <p:cNvSpPr/>
          <p:nvPr/>
        </p:nvSpPr>
        <p:spPr>
          <a:xfrm>
            <a:off x="4697280" y="24210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总体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59" name="矩形 48217"/>
          <p:cNvSpPr/>
          <p:nvPr/>
        </p:nvSpPr>
        <p:spPr>
          <a:xfrm>
            <a:off x="342720" y="36259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样本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60" name="矩形 48218"/>
          <p:cNvSpPr/>
          <p:nvPr/>
        </p:nvSpPr>
        <p:spPr>
          <a:xfrm>
            <a:off x="5132160" y="42210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容量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2248920" y="289080"/>
            <a:ext cx="403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黑体"/>
              </a:rPr>
              <a:t>20.3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　课题学习　体质健康测试中的数据分析</a:t>
            </a:r>
            <a:endParaRPr b="0" lang="en-US" sz="22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1050120" y="1104480"/>
            <a:ext cx="25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宋体"/>
                <a:ea typeface="黑体"/>
              </a:rPr>
              <a:t>  </a:t>
            </a:r>
            <a:r>
              <a:rPr b="1" lang="zh-CN" sz="2400" spc="-1" strike="noStrike">
                <a:solidFill>
                  <a:srgbClr val="67841a"/>
                </a:solidFill>
                <a:latin typeface="宋体"/>
                <a:ea typeface="黑体"/>
              </a:rPr>
              <a:t>►  </a:t>
            </a:r>
            <a:r>
              <a:rPr b="1" lang="zh-CN" sz="2400" spc="-1" strike="noStrike">
                <a:solidFill>
                  <a:srgbClr val="7030a0"/>
                </a:solidFill>
                <a:latin typeface="宋体"/>
                <a:ea typeface="黑体"/>
              </a:rPr>
              <a:t>活动</a:t>
            </a:r>
            <a:r>
              <a:rPr b="1" lang="en-US" sz="2400" spc="-1" strike="noStrike">
                <a:solidFill>
                  <a:srgbClr val="7030a0"/>
                </a:solidFill>
                <a:latin typeface="宋体"/>
              </a:rPr>
              <a:t>2   </a:t>
            </a:r>
            <a:r>
              <a:rPr b="1" lang="zh-CN" sz="2400" spc="-1" strike="noStrike">
                <a:solidFill>
                  <a:srgbClr val="7030a0"/>
                </a:solidFill>
                <a:latin typeface="宋体"/>
                <a:ea typeface="黑体"/>
              </a:rPr>
              <a:t>教材导学 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63" name="文本框 242691"/>
          <p:cNvSpPr/>
          <p:nvPr/>
        </p:nvSpPr>
        <p:spPr>
          <a:xfrm>
            <a:off x="179280" y="1712880"/>
            <a:ext cx="882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7841a"/>
                </a:solidFill>
                <a:latin typeface="宋体"/>
              </a:rPr>
              <a:t>小聪和小明为了了解本班同学身高的分布情况，小聪从第一排座位至最后一排座位每排调查一人，共调查了</a:t>
            </a:r>
            <a:r>
              <a:rPr b="1" lang="en-US" sz="2400" spc="-1" strike="noStrike">
                <a:solidFill>
                  <a:srgbClr val="67841a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67841a"/>
                </a:solidFill>
                <a:latin typeface="宋体"/>
              </a:rPr>
              <a:t>人；小明对自己周围的</a:t>
            </a:r>
            <a:r>
              <a:rPr b="1" lang="en-US" sz="2400" spc="-1" strike="noStrike">
                <a:solidFill>
                  <a:srgbClr val="67841a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67841a"/>
                </a:solidFill>
                <a:latin typeface="宋体"/>
              </a:rPr>
              <a:t>位同学进行了调查，他们采用的是</a:t>
            </a:r>
            <a:r>
              <a:rPr b="1" lang="en-US" sz="2400" spc="-1" strike="noStrike">
                <a:solidFill>
                  <a:srgbClr val="67841a"/>
                </a:solidFill>
                <a:latin typeface="宋体"/>
              </a:rPr>
              <a:t>______</a:t>
            </a:r>
            <a:r>
              <a:rPr b="1" lang="zh-CN" sz="2400" spc="-1" strike="noStrike">
                <a:solidFill>
                  <a:srgbClr val="67841a"/>
                </a:solidFill>
                <a:latin typeface="宋体"/>
              </a:rPr>
              <a:t>调查；</a:t>
            </a:r>
            <a:r>
              <a:rPr b="1" lang="en-US" sz="2400" spc="-1" strike="noStrike">
                <a:solidFill>
                  <a:srgbClr val="67841a"/>
                </a:solidFill>
                <a:latin typeface="宋体"/>
              </a:rPr>
              <a:t>______</a:t>
            </a:r>
            <a:r>
              <a:rPr b="1" lang="zh-CN" sz="2400" spc="-1" strike="noStrike">
                <a:solidFill>
                  <a:srgbClr val="67841a"/>
                </a:solidFill>
                <a:latin typeface="宋体"/>
              </a:rPr>
              <a:t>的结论更准些，理由是</a:t>
            </a:r>
            <a:r>
              <a:rPr b="1" lang="en-US" sz="2400" spc="-1" strike="noStrike">
                <a:solidFill>
                  <a:srgbClr val="67841a"/>
                </a:solidFill>
                <a:latin typeface="宋体"/>
              </a:rPr>
              <a:t>_______________________________________________________________________________________________________________________________________________________________</a:t>
            </a:r>
            <a:r>
              <a:rPr b="1" lang="zh-CN" sz="2400" spc="-1" strike="noStrike">
                <a:solidFill>
                  <a:srgbClr val="67841a"/>
                </a:solidFill>
                <a:latin typeface="宋体"/>
              </a:rPr>
              <a:t>；如果小聪和小明是用问卷的方式调查的，请你帮他们设计一份问卷调查表．</a:t>
            </a:r>
            <a:r>
              <a:rPr b="1" lang="zh-CN" sz="2400" spc="-1" strike="noStrike">
                <a:solidFill>
                  <a:srgbClr val="67841a"/>
                </a:solidFill>
                <a:latin typeface="Arial"/>
              </a:rPr>
              <a:t>◆知识链接</a:t>
            </a:r>
            <a:r>
              <a:rPr b="1" lang="en-US" sz="2400" spc="-1" strike="noStrike">
                <a:solidFill>
                  <a:srgbClr val="67841a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67841a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67841a"/>
                </a:solidFill>
                <a:latin typeface="Arial"/>
              </a:rPr>
              <a:t>新知梳理</a:t>
            </a:r>
            <a:r>
              <a:rPr b="1" lang="en-US" sz="2400" spc="-1" strike="noStrike">
                <a:solidFill>
                  <a:srgbClr val="67841a"/>
                </a:solidFill>
                <a:latin typeface="Arial"/>
              </a:rPr>
              <a:t>]</a:t>
            </a:r>
            <a:r>
              <a:rPr b="1" lang="zh-CN" sz="2400" spc="-1" strike="noStrike">
                <a:solidFill>
                  <a:srgbClr val="67841a"/>
                </a:solidFill>
                <a:latin typeface="Arial"/>
              </a:rPr>
              <a:t>知识点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64" name="矩形 242766"/>
          <p:cNvSpPr/>
          <p:nvPr/>
        </p:nvSpPr>
        <p:spPr>
          <a:xfrm>
            <a:off x="6568920" y="27813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抽样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65" name="矩形 242767"/>
          <p:cNvSpPr/>
          <p:nvPr/>
        </p:nvSpPr>
        <p:spPr>
          <a:xfrm>
            <a:off x="312480" y="33195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小聪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66" name="文本框 242768"/>
          <p:cNvSpPr/>
          <p:nvPr/>
        </p:nvSpPr>
        <p:spPr>
          <a:xfrm>
            <a:off x="179280" y="392580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小聪选取的样本有代表性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身高由低到高都有代表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，而小明选取的样本有局限性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小明自己周围的，身高都和他差不多，反映不出总体的情况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，不具有代表性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2248920" y="289080"/>
            <a:ext cx="403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黑体"/>
              </a:rPr>
              <a:t>20.3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　课题学习　体质健康测试中的数据分析</a:t>
            </a:r>
            <a:endParaRPr b="0" lang="en-US" sz="22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68" name="文本框 264194"/>
          <p:cNvSpPr/>
          <p:nvPr/>
        </p:nvSpPr>
        <p:spPr>
          <a:xfrm>
            <a:off x="179280" y="2492280"/>
            <a:ext cx="8820360" cy="3598920"/>
          </a:xfrm>
          <a:prstGeom prst="rect">
            <a:avLst/>
          </a:prstGeom>
          <a:noFill/>
          <a:ln w="9360">
            <a:solidFill>
              <a:srgbClr val="678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Times New Roman"/>
              </a:rPr>
              <a:t>调查问卷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Times New Roman"/>
              </a:rPr>
              <a:t>．你是</a:t>
            </a:r>
            <a:r>
              <a:rPr b="1" lang="en-US" sz="2400" spc="-1" strike="noStrike">
                <a:solidFill>
                  <a:srgbClr val="cc3300"/>
                </a:solidFill>
                <a:latin typeface="宋体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cc3300"/>
                </a:solidFill>
                <a:latin typeface="宋体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Times New Roman"/>
              </a:rPr>
              <a:t>生</a:t>
            </a:r>
            <a:r>
              <a:rPr b="1" lang="en-US" sz="2400" spc="-1" strike="noStrike">
                <a:solidFill>
                  <a:srgbClr val="cc3300"/>
                </a:solidFill>
                <a:latin typeface="宋体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Times New Roman"/>
              </a:rPr>
              <a:t>只选一个</a:t>
            </a:r>
            <a:r>
              <a:rPr b="1" lang="en-US" sz="2400" spc="-1" strike="noStrike">
                <a:solidFill>
                  <a:srgbClr val="cc3300"/>
                </a:solidFill>
                <a:latin typeface="宋体"/>
                <a:ea typeface="Times New Roman"/>
              </a:rPr>
              <a:t>)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仿宋_GB2312"/>
              </a:rPr>
              <a:t>．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Times New Roman"/>
              </a:rPr>
              <a:t>男　　　　　　　</a:t>
            </a:r>
            <a:r>
              <a:rPr b="1" i="1" lang="en-US" sz="2400" spc="-1" strike="noStrike">
                <a:solidFill>
                  <a:srgbClr val="cc3300"/>
                </a:solidFill>
                <a:latin typeface="宋体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Times New Roman"/>
              </a:rPr>
              <a:t>．女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仿宋_GB2312"/>
              </a:rPr>
              <a:t>．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Times New Roman"/>
              </a:rPr>
              <a:t>你的身高是</a:t>
            </a:r>
            <a:r>
              <a:rPr b="1" lang="en-US" sz="2400" spc="-1" strike="noStrike">
                <a:solidFill>
                  <a:srgbClr val="cc3300"/>
                </a:solidFill>
                <a:latin typeface="宋体"/>
                <a:ea typeface="Times New Roman"/>
              </a:rPr>
              <a:t>________</a:t>
            </a:r>
            <a:r>
              <a:rPr b="1" i="1" lang="en-US" sz="2400" spc="-1" strike="noStrike">
                <a:solidFill>
                  <a:srgbClr val="cc3300"/>
                </a:solidFill>
                <a:latin typeface="宋体"/>
                <a:ea typeface="Times New Roman"/>
              </a:rPr>
              <a:t>cm</a:t>
            </a:r>
            <a:r>
              <a:rPr b="1" lang="en-US" sz="2400" spc="-1" strike="noStrike">
                <a:solidFill>
                  <a:srgbClr val="cc3300"/>
                </a:solidFill>
                <a:latin typeface="宋体"/>
                <a:ea typeface="Times New Roman"/>
              </a:rPr>
              <a:t>.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Times New Roman"/>
              </a:rPr>
              <a:t>填好后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仿宋_GB2312"/>
              </a:rPr>
              <a:t>，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Times New Roman"/>
              </a:rPr>
              <a:t>请将问卷交给数学课代表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仿宋_GB2312"/>
              </a:rPr>
              <a:t>，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Times New Roman"/>
              </a:rPr>
              <a:t>谢谢合作！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69" name="矩形 264198"/>
          <p:cNvSpPr/>
          <p:nvPr/>
        </p:nvSpPr>
        <p:spPr>
          <a:xfrm>
            <a:off x="868320" y="14842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答案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]</a:t>
            </a:r>
            <a:r>
              <a:rPr b="0" lang="en-US" sz="2400" spc="-1" strike="noStrike">
                <a:solidFill>
                  <a:srgbClr val="67841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组合 15"/>
          <p:cNvGrpSpPr/>
          <p:nvPr/>
        </p:nvGrpSpPr>
        <p:grpSpPr>
          <a:xfrm>
            <a:off x="250920" y="1197000"/>
            <a:ext cx="3025800" cy="736560"/>
            <a:chOff x="250920" y="1197000"/>
            <a:chExt cx="3025800" cy="7365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250920" y="1197000"/>
              <a:ext cx="30258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3"/>
            <p:cNvSpPr/>
            <p:nvPr/>
          </p:nvSpPr>
          <p:spPr>
            <a:xfrm>
              <a:off x="790560" y="1199880"/>
              <a:ext cx="23976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新 知 梳 理</a:t>
              </a:r>
              <a:endParaRPr b="0" lang="en-US" sz="2800" spc="-1" strike="noStrike">
                <a:solidFill>
                  <a:srgbClr val="67841a"/>
                </a:solidFill>
                <a:latin typeface="Arial"/>
              </a:endParaRPr>
            </a:p>
          </p:txBody>
        </p:sp>
      </p:grpSp>
      <p:sp>
        <p:nvSpPr>
          <p:cNvPr id="373" name="Rectangle 10"/>
          <p:cNvSpPr/>
          <p:nvPr/>
        </p:nvSpPr>
        <p:spPr>
          <a:xfrm>
            <a:off x="539640" y="190296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宋体"/>
                <a:ea typeface="黑体"/>
              </a:rPr>
              <a:t>  </a:t>
            </a:r>
            <a:r>
              <a:rPr b="1" lang="zh-CN" sz="2400" spc="-1" strike="noStrike">
                <a:solidFill>
                  <a:srgbClr val="67841a"/>
                </a:solidFill>
                <a:latin typeface="宋体"/>
                <a:ea typeface="黑体"/>
              </a:rPr>
              <a:t>►  </a:t>
            </a:r>
            <a:r>
              <a:rPr b="1" lang="zh-CN" sz="2400" spc="-1" strike="noStrike">
                <a:solidFill>
                  <a:srgbClr val="7030a0"/>
                </a:solidFill>
                <a:latin typeface="宋体"/>
                <a:ea typeface="黑体"/>
              </a:rPr>
              <a:t>知识点　利用统计知识进行数据分析 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2248920" y="289080"/>
            <a:ext cx="403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黑体"/>
              </a:rPr>
              <a:t>20.3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　课题学习　体质健康测试中的数据分析</a:t>
            </a:r>
            <a:endParaRPr b="0" lang="en-US" sz="22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75" name="文本框 60452"/>
          <p:cNvSpPr/>
          <p:nvPr/>
        </p:nvSpPr>
        <p:spPr>
          <a:xfrm>
            <a:off x="179280" y="2421000"/>
            <a:ext cx="882036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利用统计知识进行数据分析时，经常按以下步骤进行：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收集收据；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整理数据；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描述数据；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分析数据；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撰写调查报告；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交流．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7"/>
          <p:cNvGrpSpPr/>
          <p:nvPr/>
        </p:nvGrpSpPr>
        <p:grpSpPr>
          <a:xfrm>
            <a:off x="468360" y="1179360"/>
            <a:ext cx="3103200" cy="733680"/>
            <a:chOff x="468360" y="1179360"/>
            <a:chExt cx="3103200" cy="733680"/>
          </a:xfrm>
        </p:grpSpPr>
        <p:pic>
          <p:nvPicPr>
            <p:cNvPr id="377" name="Picture 3" descr=""/>
            <p:cNvPicPr/>
            <p:nvPr/>
          </p:nvPicPr>
          <p:blipFill>
            <a:blip r:embed="rId1"/>
            <a:stretch/>
          </p:blipFill>
          <p:spPr>
            <a:xfrm>
              <a:off x="468360" y="1179360"/>
              <a:ext cx="310320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Box 22"/>
            <p:cNvSpPr/>
            <p:nvPr/>
          </p:nvSpPr>
          <p:spPr>
            <a:xfrm>
              <a:off x="1471680" y="1179360"/>
              <a:ext cx="14608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重难互动探究</a:t>
              </a:r>
              <a:endParaRPr b="0" lang="en-US" sz="2800" spc="-1" strike="noStrike">
                <a:solidFill>
                  <a:srgbClr val="67841a"/>
                </a:solidFill>
                <a:latin typeface="Arial"/>
              </a:endParaRPr>
            </a:p>
          </p:txBody>
        </p:sp>
      </p:grpSp>
      <p:sp>
        <p:nvSpPr>
          <p:cNvPr id="379" name="Rectangle 9"/>
          <p:cNvSpPr/>
          <p:nvPr/>
        </p:nvSpPr>
        <p:spPr>
          <a:xfrm>
            <a:off x="395280" y="1871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  <a:ea typeface="黑体"/>
              </a:rPr>
              <a:t>探究问题一　利用统计知识对数据的集中趋势进行分析 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2248920" y="289080"/>
            <a:ext cx="403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黑体"/>
              </a:rPr>
              <a:t>20.3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　课题学习　体质健康测试中的数据分析</a:t>
            </a:r>
            <a:endParaRPr b="0" lang="en-US" sz="22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81" name="矩形 141440"/>
          <p:cNvSpPr/>
          <p:nvPr/>
        </p:nvSpPr>
        <p:spPr>
          <a:xfrm>
            <a:off x="0" y="279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82" name="文本框 141444"/>
          <p:cNvSpPr/>
          <p:nvPr/>
        </p:nvSpPr>
        <p:spPr>
          <a:xfrm>
            <a:off x="179280" y="2492280"/>
            <a:ext cx="882036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ff66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某校为了了解八年级女生的体能情况，随机抽查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名女生，测试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分钟仰卧起坐的次数，并绘制成如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所示的频数分布直方图和不完整的统计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每个分组包括左端点，不包括右端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，请你根据图中提供的信息，解答以下问题：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分别把统计图与统计表补充完整；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2248920" y="289080"/>
            <a:ext cx="403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黑体"/>
              </a:rPr>
              <a:t>20.3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　课题学习　体质健康测试中的数据分析</a:t>
            </a:r>
            <a:endParaRPr b="0" lang="en-US" sz="22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84" name="文本框 249858"/>
          <p:cNvSpPr/>
          <p:nvPr/>
        </p:nvSpPr>
        <p:spPr>
          <a:xfrm>
            <a:off x="179280" y="1484280"/>
            <a:ext cx="8820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被抽查的女生小敏说：“我的仰卧起坐次数是被抽查的所有同学的仰卧起坐次数的中位数”，请你写出小敏仰卧起坐次数所在的范围；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若年级的奋斗目标成绩是平均每个女生每分钟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次，问被抽查的所有女生的平均成绩是否达到奋斗目标成绩？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50920" y="4781520"/>
          <a:ext cx="8497800" cy="1096920"/>
        </p:xfrm>
        <a:graphic>
          <a:graphicData uri="http://schemas.openxmlformats.org/drawingml/2006/table">
            <a:tbl>
              <a:tblPr/>
              <a:tblGrid>
                <a:gridCol w="2598840"/>
                <a:gridCol w="1066680"/>
                <a:gridCol w="1068480"/>
                <a:gridCol w="1066680"/>
                <a:gridCol w="2697120"/>
              </a:tblGrid>
              <a:tr h="1006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7841a"/>
                          </a:solidFill>
                          <a:latin typeface="宋体"/>
                          <a:ea typeface="Times New Roman"/>
                        </a:rPr>
                        <a:t>仰卧起坐次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7841a"/>
                          </a:solidFill>
                          <a:latin typeface="宋体"/>
                          <a:ea typeface="Times New Roman"/>
                        </a:rPr>
                        <a:t>数的范围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宋体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67841a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67841a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r>
                        <a:rPr b="1" lang="zh-CN" sz="2000" spc="-1" strike="noStrike">
                          <a:solidFill>
                            <a:srgbClr val="67841a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宋体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宋体"/>
                          <a:ea typeface="Times New Roman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67841a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宋体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7841a"/>
                          </a:solidFill>
                          <a:latin typeface="宋体"/>
                          <a:ea typeface="Times New Roman"/>
                        </a:rPr>
                        <a:t>频数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7841a"/>
                          </a:solidFill>
                          <a:latin typeface="宋体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841a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2248920" y="289080"/>
            <a:ext cx="403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黑体"/>
              </a:rPr>
              <a:t>20.3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　课题学习　体质健康测试中的数据分析</a:t>
            </a:r>
            <a:endParaRPr b="0" lang="en-US" sz="2200" spc="-1" strike="noStrike">
              <a:solidFill>
                <a:srgbClr val="67841a"/>
              </a:solidFill>
              <a:latin typeface="Arial"/>
            </a:endParaRPr>
          </a:p>
        </p:txBody>
      </p:sp>
      <p:pic>
        <p:nvPicPr>
          <p:cNvPr id="387" name="图片 267267" descr="E:/兼/2014 全品/全品/2014ppt/数学/人教八下数学新教案做课件/SC190.TIF"/>
          <p:cNvPicPr/>
          <p:nvPr/>
        </p:nvPicPr>
        <p:blipFill>
          <a:blip r:embed="rId1"/>
          <a:stretch/>
        </p:blipFill>
        <p:spPr>
          <a:xfrm>
            <a:off x="1332000" y="2133720"/>
            <a:ext cx="2251080" cy="246060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267266" descr="E:/兼/2014 全品/全品/2014ppt/数学/人教八下数学新教案做课件/SC191.TIF"/>
          <p:cNvPicPr/>
          <p:nvPr/>
        </p:nvPicPr>
        <p:blipFill>
          <a:blip r:embed="rId2"/>
          <a:stretch/>
        </p:blipFill>
        <p:spPr>
          <a:xfrm>
            <a:off x="5076720" y="2133720"/>
            <a:ext cx="2335320" cy="2439720"/>
          </a:xfrm>
          <a:prstGeom prst="rect">
            <a:avLst/>
          </a:prstGeom>
          <a:ln w="0">
            <a:noFill/>
          </a:ln>
        </p:spPr>
      </p:pic>
      <p:sp>
        <p:nvSpPr>
          <p:cNvPr id="389" name="矩形 267268"/>
          <p:cNvSpPr/>
          <p:nvPr/>
        </p:nvSpPr>
        <p:spPr>
          <a:xfrm>
            <a:off x="0" y="199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90" name="矩形 267269"/>
          <p:cNvSpPr/>
          <p:nvPr/>
        </p:nvSpPr>
        <p:spPr>
          <a:xfrm>
            <a:off x="1359000" y="4867560"/>
            <a:ext cx="195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7841a"/>
                </a:solidFill>
                <a:latin typeface="宋体"/>
                <a:ea typeface="Times New Roman"/>
              </a:rPr>
              <a:t>图</a:t>
            </a:r>
            <a:r>
              <a:rPr b="1" lang="en-US" sz="2400" spc="-1" strike="noStrike">
                <a:solidFill>
                  <a:srgbClr val="67841a"/>
                </a:solidFill>
                <a:latin typeface="宋体"/>
                <a:ea typeface="Times New Roman"/>
              </a:rPr>
              <a:t>20</a:t>
            </a:r>
            <a:r>
              <a:rPr b="1" lang="zh-CN" sz="2400" spc="-1" strike="noStrike">
                <a:solidFill>
                  <a:srgbClr val="67841a"/>
                </a:solidFill>
                <a:latin typeface="宋体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67841a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67841a"/>
                </a:solidFill>
                <a:latin typeface="宋体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67841a"/>
                </a:solidFill>
                <a:latin typeface="宋体"/>
                <a:ea typeface="Times New Roman"/>
              </a:rPr>
              <a:t>1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7841a"/>
                </a:solidFill>
                <a:latin typeface="宋体"/>
                <a:ea typeface="Times New Roman"/>
              </a:rPr>
              <a:t>　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  <p:sp>
        <p:nvSpPr>
          <p:cNvPr id="391" name="矩形 267270"/>
          <p:cNvSpPr/>
          <p:nvPr/>
        </p:nvSpPr>
        <p:spPr>
          <a:xfrm>
            <a:off x="5175360" y="4867920"/>
            <a:ext cx="19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7841a"/>
                </a:solidFill>
                <a:latin typeface="宋体"/>
                <a:ea typeface="Times New Roman"/>
              </a:rPr>
              <a:t>图</a:t>
            </a:r>
            <a:r>
              <a:rPr b="1" lang="en-US" sz="2400" spc="-1" strike="noStrike">
                <a:solidFill>
                  <a:srgbClr val="67841a"/>
                </a:solidFill>
                <a:latin typeface="宋体"/>
                <a:ea typeface="Times New Roman"/>
              </a:rPr>
              <a:t>20</a:t>
            </a:r>
            <a:r>
              <a:rPr b="1" lang="zh-CN" sz="2400" spc="-1" strike="noStrike">
                <a:solidFill>
                  <a:srgbClr val="67841a"/>
                </a:solidFill>
                <a:latin typeface="宋体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67841a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67841a"/>
                </a:solidFill>
                <a:latin typeface="宋体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67841a"/>
                </a:solidFill>
                <a:latin typeface="宋体"/>
                <a:ea typeface="Times New Roman"/>
              </a:rPr>
              <a:t>2</a:t>
            </a:r>
            <a:endParaRPr b="0" lang="en-US" sz="2400" spc="-1" strike="noStrike">
              <a:solidFill>
                <a:srgbClr val="67841a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1371600" y="289080"/>
            <a:ext cx="7953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黑体"/>
              </a:rPr>
              <a:t>20.3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  <a:ea typeface="黑体"/>
              </a:rPr>
              <a:t>　课题学习　体质健康测试中的数据分析</a:t>
            </a:r>
            <a:endParaRPr b="0" lang="en-US" sz="2200" spc="-1" strike="noStrike">
              <a:solidFill>
                <a:srgbClr val="67841a"/>
              </a:solidFill>
              <a:latin typeface="Arial"/>
            </a:endParaRPr>
          </a:p>
        </p:txBody>
      </p:sp>
      <p:pic>
        <p:nvPicPr>
          <p:cNvPr id="393" name="对象 268290" descr=""/>
          <p:cNvPicPr/>
          <p:nvPr/>
        </p:nvPicPr>
        <p:blipFill>
          <a:blip r:embed="rId1"/>
          <a:stretch/>
        </p:blipFill>
        <p:spPr>
          <a:xfrm>
            <a:off x="609480" y="1341360"/>
            <a:ext cx="8055000" cy="497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dc:language>en-US</dc:language>
  <cp:lastModifiedBy>全新感觉</cp:lastModifiedBy>
  <dcterms:modified xsi:type="dcterms:W3CDTF">2016-06-13T11:37:31Z</dcterms:modified>
  <cp:revision>74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5</vt:lpwstr>
  </property>
</Properties>
</file>